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gif" ContentType="image/gif"/>
  <Override PartName="/ppt/media/image9.png" ContentType="image/png"/>
  <Override PartName="/ppt/media/image10.jpeg" ContentType="image/jpeg"/>
  <Override PartName="/ppt/media/image13.wmf" ContentType="image/x-wmf"/>
  <Override PartName="/ppt/media/image7.jpeg" ContentType="image/jpeg"/>
  <Override PartName="/ppt/media/image5.gif" ContentType="image/gif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2F13-194F-42CD-89C5-EE583A57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7DF-2854-4AA7-B920-DBDB64E3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996DF-4249-4AB2-9036-68DBB154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E7FF2-B12C-417C-A72F-4D65AF17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2E75F-D171-483B-A2DC-40E6B019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94523-2E5B-41B2-AF35-249F6C78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9557B-2AD1-4392-9753-B74F96DE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E215C-0A34-4129-8E29-319F0CD1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82BD9-4462-4820-87F7-A6747FCA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BC0CB-218D-471B-9182-B1C8734F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C5136-380D-4076-BB8A-67F5D4BD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B981F-1E44-4B2E-9A38-0920433F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A5E9-C32F-417C-A533-16217A23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D5297-A646-48BD-B8D1-0F096B45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14669-9046-4627-B644-4684E11A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1EB75-1288-42F5-A417-4C2B730A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33111-F8B5-482B-9667-62B2DCC2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DF668-0298-4001-894D-48325216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5E43C-4235-4AC1-A41E-A2146244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10F87-C34F-4B3B-96A9-E1F1A03F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B3206-CC53-49AB-8854-EC58C04C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37F8C-0903-435E-8216-091ECFB2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F0BBA-0923-492E-893E-43513BB7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5EB1-F687-4624-B6CF-4BFD7C43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8C8DD-5454-4A6D-99B8-5254AF51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98120-57D0-4210-BFFC-6DB45541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615BB-08EF-49DD-98C3-1D6B051D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E87DC-A7A5-454E-9224-A9CB0FE2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271FC-181E-4918-9AD0-9A4D2BAF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10C7D-F026-4C87-88B6-D316020C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3B402-9FC2-40BC-9910-E24D5A11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4805D-3CA3-408F-B971-E07AF70B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1554B-F80B-476D-AC4D-8B0E5841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9E93D-CB3F-43BC-9099-37A4CAC4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5DFD-B98E-4DDB-901B-6F41934A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19CCE-92C8-4A32-886A-A2D2B05B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AE2CD-6CD3-4D44-AD0A-72A965A3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225C7-F086-4319-A582-F643EADF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07C13-A0E1-484F-8B1A-4009C5A3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C3B87-AD03-40CC-B739-F697D4F3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42C8D-2771-4BC4-80E0-7EE0C156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09DE8-B711-4DD0-86BD-7C9A0A56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38D84-48D3-47D0-8765-9F3237B3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12D76-7A9F-4DC5-AFB8-95D944CD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FBDA3-B75E-47A0-876E-D88A8F72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1704-54D5-4B88-B745-3EA03A66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D9320-CBD3-47DE-88FC-23E20927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D3A30-277D-4713-895A-C912D76C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641DC-FF8F-4C8B-85F1-D1FCE86A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3C78A-6C04-46DB-83B4-DE9C4183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6BC4E-0F0B-4430-8C24-C527BA33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3F085C-EC24-4E5F-A47E-B1D3B491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5A447-F9FB-4310-934B-D3B1C198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1D5BA-2E20-469A-811C-EFAE15FD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4D598-32D2-4105-9B2C-AC143328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D0DD73-6EF2-41E4-8DFD-CDDCE50A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D5E7-D3A6-45DD-8B0A-32F23D6B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94B622-1E91-4499-A1D8-3A0FB39F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7DF89-04C6-465D-A2CA-85084A36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4D004-AB32-4EE0-8219-9CA4DEC1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DFE43-E937-43C0-8242-B5CCB281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03824-67AA-4D86-89D3-69E97352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8408F2-8A46-4048-9CF0-3645F680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3AA3D-DB46-4F9D-BBA9-225FD1EA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586C-4298-4AF3-B0B0-4DBF0FEB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6E74-E091-4501-B894-896DC808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AFCD-7269-4A23-9C6C-7B8A8F89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E2F1-3469-486D-9FA6-56EA9EF9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B1D5-BF3C-49F2-A2F0-47849780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B5DE-A530-4F8B-ACF8-B1362BB4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71E7-02E5-449B-9497-437E6E37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0891-833B-4B22-BB55-A14AB475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CE91-E09F-436D-8A15-F44F8200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D4E5-FCB1-4832-B81B-57A316F1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E2CD3-25A1-4371-B84E-72FF7707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53BA2-B4E6-4918-96C3-40F7CF5C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102D0-1845-4985-A464-44189FAF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B37F2-2EFE-418E-914F-2B685AB7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CAAEC-BA87-445E-B134-9820A473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11AC-749D-4DBD-8F64-8C7FC716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C6E84-5D62-4111-98A1-40940AA5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ADD8F-D8E9-44B9-A1C6-F924C9C4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7204F-F6AA-47E0-847B-47ACBA30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D5F16-D596-4C85-A785-FB0ABBE0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E963E-CC70-44F8-8182-CF303CE6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91DD5-DAC0-425D-AF61-D212B743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C2F88-5327-42C7-9903-969E95F7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9DFB7-21F9-4D95-8DD7-460818CC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A89D9-8A09-4B52-BD18-9A64E897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F9FD3-E27D-48FB-AE6F-0F089744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6AD-26A5-40AD-8A00-368C49B0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8C195-F7C4-4901-B7C6-83CBF850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A530E-CA2E-42F2-A52F-C5DC9B56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6B6C1-6497-4B98-B85A-34B21BFE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B2AA1-8C81-4AD3-9E04-B68EF759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3577E-FB62-4551-897D-299083FB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CBE67-151C-4535-AD83-031AE40D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B010D-84F3-4586-8621-75055478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E5544-50EA-4DBC-9671-AEE9C3FC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D334E-51A8-4DAD-B80A-EDFCC1E6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B7D4A-6E7B-4D3C-AB43-BE7C2130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EEB-E384-414B-9320-4A6B3499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96EA4-EF69-402F-8163-DA69EAF0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6AF93-F0C9-4F55-B7E8-1429A500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3F300-D5A6-4DED-AC24-394023AE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D4BF0-2A07-4D5A-AAD1-C08C6609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1FB3B-74EA-4E9E-ADD0-9EBBBDE1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C590F-FB93-4FCE-8604-E0DCD641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26BB4-E1B8-4375-B9EB-A09361FD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FF878-F956-4942-B35B-58E77FB2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9492C-2904-4BE0-9077-2CC73C32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50F2E-5352-4ECB-9469-C50D2262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FE4-6EAA-435D-BD2A-33C18220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F0225-2B5D-45A4-B432-4290CD4A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F00CC-5F9B-4065-B98A-A88095AA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510EB-D3DF-4FEA-A40E-DD4BF68C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9DB3A-F7EB-49E9-A3B1-4EDAF8AA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32935-DDAC-48B3-9A55-A314F368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3AF68-7783-4D15-995B-C54FD3A6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AA307-ED2B-43F1-BA94-9F2DEE97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013B0-DA4A-4173-BEA1-0DFF1011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52D50-9364-4B1D-B815-BB0C845A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62005-791E-4A44-B859-670E2408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FC7-902B-4C6D-8726-70985ED9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1DE52-72AD-4C03-9B2E-A5D2C7B5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D51A5-1127-4011-B46C-0918EFB9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57AC3-89DE-490C-A242-7E3FBC5D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F9297-1D6D-489C-91AA-85407602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3402A-693D-45A4-A385-81E6B1DE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61444-06DD-496B-8AE5-86D5BF79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FA957-410F-4F9A-8C07-DE1CFAC2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7AE3A-832F-4676-8673-AA3DAB44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BC8F3-70FC-4CF8-95CC-2C60DD28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093AB-A290-4C36-8C4F-0B8D24EA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9C8-8866-44ED-ACED-275B1B75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21310-DB37-4740-877F-D96CD647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D0413-1FE4-43B9-9EC9-C64963A9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A8F8F-07DE-4A3F-AB0C-D398AA55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2B49C-F3BE-45FC-8718-08B2BABF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8E7BA-2EA2-4535-85EF-8A8F25A1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1AF0A-A8A2-4780-9087-1020F6DA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FB807-DFF5-4834-811E-1A20EB8E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A99A7-3426-44C4-AFD4-E4247241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A1BE6-2898-4305-AE29-2F1C7C44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DC65C-F1BC-4F2E-B365-2D25606C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AF9-87E9-485E-906E-80340148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3C0C9-363E-46EB-A3B2-F02F2891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E3B52-F871-4C15-9E06-0DE49C42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5F8F1-720E-4001-BA9D-BEE1593E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AC204-F192-4B37-B09E-05575229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4E913-F9BF-46A0-A583-37E84B48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C0213-629C-4F22-AC23-597161E2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FFEA1-79BA-470D-836B-EDF51081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12055-D865-4E19-83E5-04E0278B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31E41-265C-4B36-A227-9C3B9FF5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F797F-35B2-418D-94E0-8C0D7194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2D89-4E40-4F35-81D0-976F0F87173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86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347F-EA90-42C0-9352-C0011C0A7E9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29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6614-1FB7-4BE2-B8D8-904174B2D8D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72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091A-2977-41AD-B861-86D9FAAC109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15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5527-55F1-47ED-833C-051A91E491C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5FB4-F321-44BB-92B6-F6A38A86619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85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1012-6436-4E40-B151-83363FBE8E9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8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114B-3EEC-45E7-91AE-71FE38E0855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71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0E02-224C-46D4-BE18-51655E83B94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14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F1E9-32AA-474D-BB3D-80D6D5AE226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57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3A2A-545F-456F-9AF8-92EB5B8E605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00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C194-EA4E-478E-A1D4-8C0796A8B84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43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0324-BBBA-44FA-83BE-0408313D392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5.gif"/><Relationship Id="rId5" Type="http://schemas.openxmlformats.org/officeDocument/2006/relationships/image" Target="../media/image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gi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gif"/><Relationship Id="rId3" Type="http://schemas.openxmlformats.org/officeDocument/2006/relationships/image" Target="../media/image8.pn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gi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Toplinsko širenje tij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Plinovima s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volumen povećava zagrijavanjem ,a smanjuje hlađenjem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grijavanjem se plinovima volumen povećava desetak puta više nego tekućin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36680" y="46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Zašto se tijela zagrijavanjem š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23640" y="1357200"/>
            <a:ext cx="83833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što se topao zrak diže, a hladan spuš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čestično-kinetičkom teorijom objasniti toplinsko širenje tije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Sve tvari građene su od čestica koje se nasumično gibaju. Kada tijela zagrijavamo, čestice tvari gibaju se brže pa zauzimaju veći prostor. Zbog toga se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olumen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 poveća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asa tijela zagrijavanjem se ne mijenja, ali volumen se povećava pa se njegova gustoća smanju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Slika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9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epravilnosti u toplinskome širenju v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Voda se širi zagrijavanjem iznad 4 °C, ali i hlađenjem ispod 4 °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Najveću gustoću voda ima na 4 °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Led na 0 °C ima manju gustoću nego voda na bilo kojoj temperaturi. Gustoća leda je, dakle, manja od gustoće vode. Zato led pliva na vod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Slika 2" descr=""/>
          <p:cNvPicPr/>
          <p:nvPr/>
        </p:nvPicPr>
        <p:blipFill>
          <a:blip r:embed="rId1"/>
          <a:stretch/>
        </p:blipFill>
        <p:spPr>
          <a:xfrm>
            <a:off x="3956040" y="4587840"/>
            <a:ext cx="5138640" cy="16002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4128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Primjeri toplinskog širenja tije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08080" y="1320840"/>
            <a:ext cx="859464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što se ostavlja razmak na „spoju” tračnica i na mostovi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Što je bimet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astavljen je od dva oblikom jednaka lima, željeznog i bakrenog. Zagrijemo li takav spoj, tzv.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bimetal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on se savi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Slika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92" name="Slika 1" descr=""/>
          <p:cNvPicPr/>
          <p:nvPr/>
        </p:nvPicPr>
        <p:blipFill>
          <a:blip r:embed="rId6"/>
          <a:stretch/>
        </p:blipFill>
        <p:spPr>
          <a:xfrm>
            <a:off x="5292720" y="1984320"/>
            <a:ext cx="2465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179280" y="347400"/>
            <a:ext cx="8569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Razmislite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Ako ulijevate vruću vodu u bocu od debelog stakla,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ona će najvjerojatnije puknut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Unutarnja stjenka boce se širi, a vanjska ne pa staklo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uca zbog nejednakog rastezanja. Boca od pyrex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stakla neće puknuti. Zašto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gledajte tablicu s podatcima o rastezanju različitih tvari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na str 95. u knjizi.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95" name="Slika 1" descr=""/>
          <p:cNvPicPr/>
          <p:nvPr/>
        </p:nvPicPr>
        <p:blipFill>
          <a:blip r:embed="rId2"/>
          <a:stretch/>
        </p:blipFill>
        <p:spPr>
          <a:xfrm>
            <a:off x="0" y="633240"/>
            <a:ext cx="1074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94920" y="1699920"/>
            <a:ext cx="4762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: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ugla i pr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ože li kuglica proći kroz prst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Hoće li to vrijediti i nakon što kuglicu zagrijem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e dogodilo nakon zagrijavanj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4" descr="SnapShot(129).jpg"/>
          <p:cNvPicPr/>
          <p:nvPr/>
        </p:nvPicPr>
        <p:blipFill>
          <a:blip r:embed="rId5"/>
          <a:srcRect l="39372" t="0" r="29528" b="0"/>
          <a:stretch/>
        </p:blipFill>
        <p:spPr>
          <a:xfrm>
            <a:off x="5508720" y="833400"/>
            <a:ext cx="2879640" cy="5208480"/>
          </a:xfrm>
          <a:prstGeom prst="rect">
            <a:avLst/>
          </a:prstGeom>
          <a:ln w="0">
            <a:noFill/>
          </a:ln>
        </p:spPr>
      </p:pic>
      <p:pic>
        <p:nvPicPr>
          <p:cNvPr id="561" name="Slika 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to možemo objasniti? Što se dogodilo u unutrašnjosti kug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grijavanjem se povećava unutarnja energija tijela, tj. kinetička i potencijalna energija njegovih molekula. Uslijed toga se molekule međusobno udalje, što izvana vidimo kao povećanje volumena tije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ključak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Većin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se 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 čvrstih tijela zagrijavanjem širi i povećava im se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olumen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, a hlađenjem se stežu i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olumen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 im se smanju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Slika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Slika 1" descr=""/>
          <p:cNvPicPr/>
          <p:nvPr/>
        </p:nvPicPr>
        <p:blipFill>
          <a:blip r:embed="rId1"/>
          <a:stretch/>
        </p:blipFill>
        <p:spPr>
          <a:xfrm>
            <a:off x="457200" y="1619280"/>
            <a:ext cx="8229600" cy="365616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 txBox="1"/>
          <p:nvPr/>
        </p:nvSpPr>
        <p:spPr>
          <a:xfrm>
            <a:off x="287280" y="71280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: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irenje metalnog šta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 čemu ovisi produženje štap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oduženje štapa pri zagrijavanju proporcionalno je njegovoj duljini i promjeni temper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Slika 3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282600" y="1125360"/>
            <a:ext cx="85788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ao se ponašaju tekućine promjenom temperatur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Zbog čega čak i mala količina mlijeka uspije iskipjeti iz lončić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Raste li volumen tekućinama brže nego krutim tijelima, kada ih zagrijavam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ako bismo ispitali šire li se sve tekućine jednak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Slika 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455400" y="1445760"/>
            <a:ext cx="4259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: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irenje vode i alkoh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Hoće li se otopine alkohola i obojena voda jednako širiti kada ih zagrijavamo u jednakim uvjetim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Content Placeholder 3" descr="Širenje alkohola i vode sa strelicama.jpg"/>
          <p:cNvPicPr/>
          <p:nvPr/>
        </p:nvPicPr>
        <p:blipFill>
          <a:blip r:embed="rId3"/>
          <a:srcRect l="24803" t="0" r="38388" b="0"/>
          <a:stretch/>
        </p:blipFill>
        <p:spPr>
          <a:xfrm>
            <a:off x="5364000" y="844560"/>
            <a:ext cx="3456000" cy="5281560"/>
          </a:xfrm>
          <a:prstGeom prst="rect">
            <a:avLst/>
          </a:prstGeom>
          <a:ln w="0">
            <a:noFill/>
          </a:ln>
        </p:spPr>
      </p:pic>
      <p:pic>
        <p:nvPicPr>
          <p:cNvPr id="573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mo u pokusu vidjel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bismo to objasnil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Zagrijavanjem tekućina povećava se njihov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olumen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, a hlađenjem se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olumen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 smanju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ekućinama se zagrijavanjem povećava obujam i do 10 puta više nego čvrstim tijelim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Slika 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5920" y="74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Kako se ponaša plin promjenom tempera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85920" y="191628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: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aklena tikvica s čep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dakle mjehurići u vodi?      Što je u tikvic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Što će se dogoditi ohladite li zrak u tikvic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Picture 3" descr="SnapShot(32).jpg"/>
          <p:cNvPicPr/>
          <p:nvPr/>
        </p:nvPicPr>
        <p:blipFill>
          <a:blip r:embed="rId5"/>
          <a:srcRect l="0" t="0" r="16142" b="0"/>
          <a:stretch/>
        </p:blipFill>
        <p:spPr>
          <a:xfrm>
            <a:off x="4356000" y="2133720"/>
            <a:ext cx="4600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0:34:57Z</dcterms:created>
  <dc:creator>Zdenko</dc:creator>
  <dc:description/>
  <dc:language>en-US</dc:language>
  <cp:lastModifiedBy>MArina Dumančić</cp:lastModifiedBy>
  <dcterms:modified xsi:type="dcterms:W3CDTF">2019-09-13T19:34:29Z</dcterms:modified>
  <cp:revision>45</cp:revision>
  <dc:subject/>
  <dc:title>Toplinsko širenje tijela</dc:title>
</cp:coreProperties>
</file>